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A33D-30F2-4BD8-8C74-4B4A6272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D77D-7B9C-47F9-960E-93FEFCDF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0323-C643-448D-A5B9-8B9CA3F4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7A67A-A7C6-438C-B17A-D16DE7DF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C787-9498-491D-B1B6-2E3D0827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7BDD-07E0-4445-9B26-35BFCFC3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D3EF-AC3E-4338-B7D1-270EE5C6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FD48-4A44-4755-A263-B01AC2B8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B121-1B1B-451F-A32B-29ED72C7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F256-15CF-4CCB-8143-57D26B92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A6CA-2B33-48F0-BEC4-74EFDA16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47F2-B8DE-47FC-A02F-BF3F1D85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BCAC-28B6-4CFF-AF2B-9E774902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63DF-E8F9-43CE-8692-5B40DC0F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60F5-8FD1-40CB-8CF5-6A2AF988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14F8-F490-42FA-BE78-4ADE2167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E293-EE26-42CD-B1BB-0CAAEEDD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9655A-E95E-4997-8E0E-AD55A9F8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53A3-000C-4658-BC35-5852654F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1812-A66A-4E5C-9EA9-A2C91D2C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B7CF-5287-490E-B313-5DA1C5AD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398C-98C3-4C54-9766-AB05A086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9523-1F8F-4394-9AFE-5EC41505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7C3C-6627-4722-BB7D-F943CAFB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5995-41DC-4AA9-8CE4-3DD295DC6B7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9F43-B74C-4DCD-A0D8-1A309DAB3C7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613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6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Боже, безцен е небесний Твой дар -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м дал Си Исуса Спасител и Цар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81080" y="761040"/>
            <a:ext cx="932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! Тебе слава! Алилуя, ами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! Тебе слава по целия мир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br>
              <a:rPr sz="44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165852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е, ние славим и Твойта любов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лял Си за нас скъпоценна Си кръ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181080" y="761040"/>
            <a:ext cx="932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! Тебе слава! Алилуя, ами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! Тебе слава по целия мир!</a:t>
            </a:r>
            <a:br>
              <a:rPr sz="44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81080" y="1310400"/>
            <a:ext cx="93250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Тебе ние хвалим, о, Душе Свят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святост и истина извор Си Ти!</a:t>
            </a:r>
            <a:br>
              <a:rPr sz="46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81080" y="791640"/>
            <a:ext cx="9325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! Тебе слава! Алилуя, ами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лилуя! Тебе слава по целия мир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4-09T09:57:58Z</dcterms:modified>
  <cp:revision>21</cp:revision>
  <dc:subject/>
  <dc:title>Slide 1</dc:title>
</cp:coreProperties>
</file>